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406-BC60-4188-9A0D-85A92977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31A-C9BC-4B11-BB7B-D8754DD6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414-544A-45A1-B03B-82F433B4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067-5330-42C4-94FF-CAB6F1A6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91E-3ECE-4EA3-8AF3-BC8E1DF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8C9-6CFA-4F47-AD07-22C783E6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FBE-3929-48BC-BBB1-BCD4875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B43-5AF5-45C1-AE8F-B9A8F71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7D5-38CD-4B49-86E6-CD49F0E0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CBF-9A72-4813-A1BA-94A9F3C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F82-AEEB-44C6-9B7A-4AF023E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6A6-85BE-48B0-8E9D-4E306BA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BC28-C5D2-4E53-BE33-44653895D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457200"/>
            <a:ext cx="434340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 يا قو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ُ مخلصي ومُنقذ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ُ         يا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رب هو ترسي وملجأي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10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عوتُك يا رب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سمع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ِن مثوى الأمواتِ انتشل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بتُك في ضيقي استجبتَ ل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غَمرةِ حبكَ غمرت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44:50Z</dcterms:created>
  <dc:creator>SUZANNE.MD</dc:creator>
  <dc:description/>
  <dc:language>en-US</dc:language>
  <cp:lastModifiedBy>HANI SAFI</cp:lastModifiedBy>
  <dcterms:modified xsi:type="dcterms:W3CDTF">2003-05-22T17:04:57Z</dcterms:modified>
  <cp:revision>2</cp:revision>
  <dc:subject/>
  <dc:title>PowerPoint Presentation</dc:title>
</cp:coreProperties>
</file>